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DA2-EAE7-4489-A841-720334A3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CFA-01BC-4012-8C2E-D8E1C8DE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7FD2-F90D-4254-B609-BE66908E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6F57-920A-4C70-B7B0-6D24DE84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5860-9067-4A3D-B206-9405D903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2EB5-CEAF-457E-83D7-48243EB4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EDEC-2151-4AD8-84E8-D91FD038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2B65-6C85-47E5-9741-11848DE7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E9E3-5CA2-4B1B-91AE-E66BF8BF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F4BF-12FC-4A83-8240-E171ECED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C209-C55B-47F0-A1D0-399B9C02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2C9-E4A6-4366-A551-CC41D583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0F64-8ABF-4C27-80E4-E3FB39AE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F35E-7641-4B0B-A574-26319D45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5D01-35C7-4C74-BA16-BC07A9A5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E9C3-F291-4089-856A-13272306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DCDF-07F2-4700-9339-61FF6428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9FAF-57FE-410F-8EA8-32F8A04C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DD85-1309-41C3-9905-AD0A4D3D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201-58AC-4C25-9293-68720D03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1EA6-DB1F-4379-BE1B-B3797102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427A-CD49-401D-90F6-A9DD8EC7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BB5B-219A-4BCC-A29C-FF24E0FA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C89-482C-4B35-B5BE-AD07BD4D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9047-432E-480F-8865-3164F1F358C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F7EF-CBD0-4B5F-8A63-8BC95BF0308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onquest of the Land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05120" y="2895120"/>
            <a:ext cx="5486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Quarter 3, Lesson 5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Josh. 10:1-12:24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n The Days of the Judges”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(Pages 30-35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514600"/>
            <a:ext cx="685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ut, again, let’s review…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 did Israel lose 36 lives in the first attempt to take Ai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did Joshua do to correct the situation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was Ai defeated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did Israel do to lay claim on  the land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did the kings in the land think about this “new” nation coming in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did the Gibeonites do about i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-6480"/>
            <a:ext cx="5362560" cy="6863400"/>
            <a:chOff x="0" y="-6480"/>
            <a:chExt cx="5362560" cy="6863400"/>
          </a:xfrm>
        </p:grpSpPr>
        <p:pic>
          <p:nvPicPr>
            <p:cNvPr id="120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-648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3846240" y="652464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3480" y="659232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123" name=""/>
          <p:cNvSpPr/>
          <p:nvPr/>
        </p:nvSpPr>
        <p:spPr>
          <a:xfrm flipH="1">
            <a:off x="2666520" y="1371600"/>
            <a:ext cx="3048120" cy="350532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562720" y="228600"/>
            <a:ext cx="358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Sou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4648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42670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38862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736640"/>
            <a:ext cx="380988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The Battle with the Kings of the South </a:t>
            </a: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(Joshua 10:1-43)</a:t>
            </a:r>
            <a:endParaRPr b="0" lang="en-US" sz="16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Five kings of the south make war with Gibeon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1-5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Gibeon calls on Joshua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6-8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Great stones fall from heaven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9-11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The sun stands still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12-14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Kings hide in a cave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15-21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41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ibe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4191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5105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eb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5257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gl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4495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4876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chis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45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armut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4343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kkeda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156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159" name=""/>
          <p:cNvSpPr/>
          <p:nvPr/>
        </p:nvSpPr>
        <p:spPr>
          <a:xfrm flipH="1">
            <a:off x="2666520" y="1371600"/>
            <a:ext cx="3048120" cy="350532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562720" y="228600"/>
            <a:ext cx="358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Sou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4648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2670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8862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8" name=""/>
          <p:cNvSpPr/>
          <p:nvPr/>
        </p:nvSpPr>
        <p:spPr>
          <a:xfrm>
            <a:off x="5334120" y="1736640"/>
            <a:ext cx="3809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The Battle with the Kings of the South </a:t>
            </a: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(Joshua 10:1-43)</a:t>
            </a:r>
            <a:endParaRPr b="0" lang="en-US" sz="16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Five kings of the south executed and hung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22-27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Israel then destroys Makkedah, Libnah, Lachish, Eglon, Hebron, Kadesh to Gaza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28-43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41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ibe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4191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5105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eb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5257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gl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4495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4876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chis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45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armut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4343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kkeda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35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ilgal (camp)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6491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4" name=""/>
          <p:cNvSpPr/>
          <p:nvPr/>
        </p:nvSpPr>
        <p:spPr>
          <a:xfrm>
            <a:off x="2362320" y="5638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bi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5562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za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6216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adesh Barnea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5410080"/>
            <a:ext cx="3505320" cy="1373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outhern Campaign is completed!</a:t>
            </a:r>
            <a:endParaRPr b="0" lang="en-US" sz="28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201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204" name=""/>
          <p:cNvSpPr txBox="1"/>
          <p:nvPr/>
        </p:nvSpPr>
        <p:spPr>
          <a:xfrm>
            <a:off x="5562720" y="380880"/>
            <a:ext cx="358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Nor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4038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0" name=""/>
          <p:cNvSpPr/>
          <p:nvPr/>
        </p:nvSpPr>
        <p:spPr>
          <a:xfrm>
            <a:off x="2971800" y="4419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2" name=""/>
          <p:cNvSpPr/>
          <p:nvPr/>
        </p:nvSpPr>
        <p:spPr>
          <a:xfrm>
            <a:off x="2819520" y="3276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4114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4343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32767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2" name=""/>
          <p:cNvSpPr/>
          <p:nvPr/>
        </p:nvSpPr>
        <p:spPr>
          <a:xfrm>
            <a:off x="5334120" y="2057400"/>
            <a:ext cx="380988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The king of Hazor calls on other kings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(Joshua 11:1-5)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2" marL="45072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Ma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2" marL="45072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him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2" marL="45072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Achshap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3" marL="91440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All to the nort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3" marL="91440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All to the hill-country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3" marL="91440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All to the Jordan Valley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3" marL="91440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Dor to the west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3" marL="91440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All nations in the land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2" marL="45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Great army assembled against Israel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2286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304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az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828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1295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1295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chshap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1676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Carme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Hermon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him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1447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10666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9144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Sea of Galilee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2860200" y="2168640"/>
            <a:ext cx="14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ordan Valley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685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ero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533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304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i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143000" y="151920"/>
            <a:ext cx="457200" cy="3812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762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ishrepoth-mai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457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3" name=""/>
          <p:cNvSpPr/>
          <p:nvPr/>
        </p:nvSpPr>
        <p:spPr>
          <a:xfrm>
            <a:off x="3733920" y="5335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Valley of Mizpah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572000" y="22824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4724280" y="1142640"/>
            <a:ext cx="990720" cy="2286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247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250" name=""/>
          <p:cNvSpPr/>
          <p:nvPr/>
        </p:nvSpPr>
        <p:spPr>
          <a:xfrm flipH="1" flipV="1">
            <a:off x="4724280" y="1142640"/>
            <a:ext cx="990720" cy="2286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562720" y="380880"/>
            <a:ext cx="358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Nor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2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4038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4419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3276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0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2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4114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4343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5" name=""/>
          <p:cNvSpPr/>
          <p:nvPr/>
        </p:nvSpPr>
        <p:spPr>
          <a:xfrm>
            <a:off x="28195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8" name=""/>
          <p:cNvSpPr/>
          <p:nvPr/>
        </p:nvSpPr>
        <p:spPr>
          <a:xfrm>
            <a:off x="2895480" y="32767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9" name=""/>
          <p:cNvSpPr/>
          <p:nvPr/>
        </p:nvSpPr>
        <p:spPr>
          <a:xfrm>
            <a:off x="5334120" y="2057400"/>
            <a:ext cx="380988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Israel defeats the northern kings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(Joshua 11:6-15)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2" marL="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God’s plan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2" marL="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The battle by the waters of Merom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2" marL="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Chariots burned; horses crippled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2" marL="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Destroyed Hazor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2" marL="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Took spoils from the cities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2286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1" name=""/>
          <p:cNvSpPr/>
          <p:nvPr/>
        </p:nvSpPr>
        <p:spPr>
          <a:xfrm>
            <a:off x="2438280" y="304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az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1828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4" name=""/>
          <p:cNvSpPr/>
          <p:nvPr/>
        </p:nvSpPr>
        <p:spPr>
          <a:xfrm>
            <a:off x="1905120" y="1295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1295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chshap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1676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Carme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Hermon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8" name=""/>
          <p:cNvSpPr/>
          <p:nvPr/>
        </p:nvSpPr>
        <p:spPr>
          <a:xfrm>
            <a:off x="24382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him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0" y="1447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10666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9144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Sea of Galilee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2860200" y="2168640"/>
            <a:ext cx="14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ordan Valley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685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ero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5" name=""/>
          <p:cNvSpPr/>
          <p:nvPr/>
        </p:nvSpPr>
        <p:spPr>
          <a:xfrm>
            <a:off x="2971800" y="533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304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i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143000" y="151920"/>
            <a:ext cx="457200" cy="3812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762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ishrepoth-mai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457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90" name=""/>
          <p:cNvSpPr/>
          <p:nvPr/>
        </p:nvSpPr>
        <p:spPr>
          <a:xfrm>
            <a:off x="3733920" y="5335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Valley of Mizpah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572000" y="22824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293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296" name=""/>
          <p:cNvSpPr/>
          <p:nvPr/>
        </p:nvSpPr>
        <p:spPr>
          <a:xfrm flipH="1" flipV="1">
            <a:off x="4724280" y="1142640"/>
            <a:ext cx="990720" cy="2286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562720" y="380880"/>
            <a:ext cx="358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Nor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038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2" name=""/>
          <p:cNvSpPr/>
          <p:nvPr/>
        </p:nvSpPr>
        <p:spPr>
          <a:xfrm>
            <a:off x="335268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3" name=""/>
          <p:cNvSpPr/>
          <p:nvPr/>
        </p:nvSpPr>
        <p:spPr>
          <a:xfrm>
            <a:off x="2971800" y="4419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4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5" name=""/>
          <p:cNvSpPr/>
          <p:nvPr/>
        </p:nvSpPr>
        <p:spPr>
          <a:xfrm>
            <a:off x="2819520" y="3276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7" name=""/>
          <p:cNvSpPr/>
          <p:nvPr/>
        </p:nvSpPr>
        <p:spPr>
          <a:xfrm>
            <a:off x="2743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8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9" name=""/>
          <p:cNvSpPr/>
          <p:nvPr/>
        </p:nvSpPr>
        <p:spPr>
          <a:xfrm>
            <a:off x="3505320" y="4114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4343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2" name=""/>
          <p:cNvSpPr/>
          <p:nvPr/>
        </p:nvSpPr>
        <p:spPr>
          <a:xfrm>
            <a:off x="213372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3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32767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2286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6" name=""/>
          <p:cNvSpPr/>
          <p:nvPr/>
        </p:nvSpPr>
        <p:spPr>
          <a:xfrm>
            <a:off x="2438280" y="304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az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1828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9" name=""/>
          <p:cNvSpPr/>
          <p:nvPr/>
        </p:nvSpPr>
        <p:spPr>
          <a:xfrm>
            <a:off x="1905120" y="1295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295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chshap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1" name=""/>
          <p:cNvSpPr/>
          <p:nvPr/>
        </p:nvSpPr>
        <p:spPr>
          <a:xfrm>
            <a:off x="838080" y="1676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Carme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2" name=""/>
          <p:cNvSpPr/>
          <p:nvPr/>
        </p:nvSpPr>
        <p:spPr>
          <a:xfrm>
            <a:off x="3429000" y="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Hermon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3" name=""/>
          <p:cNvSpPr/>
          <p:nvPr/>
        </p:nvSpPr>
        <p:spPr>
          <a:xfrm>
            <a:off x="24382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him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0" y="1447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5" name=""/>
          <p:cNvSpPr/>
          <p:nvPr/>
        </p:nvSpPr>
        <p:spPr>
          <a:xfrm>
            <a:off x="3048120" y="10666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7" name=""/>
          <p:cNvSpPr/>
          <p:nvPr/>
        </p:nvSpPr>
        <p:spPr>
          <a:xfrm>
            <a:off x="3505320" y="9144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Sea of Galilee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2860200" y="2168640"/>
            <a:ext cx="14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ordan Valley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9" name=""/>
          <p:cNvSpPr/>
          <p:nvPr/>
        </p:nvSpPr>
        <p:spPr>
          <a:xfrm>
            <a:off x="2133720" y="685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ero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533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304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i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143000" y="151920"/>
            <a:ext cx="457200" cy="3812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762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ishrepoth-mai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4" name=""/>
          <p:cNvSpPr/>
          <p:nvPr/>
        </p:nvSpPr>
        <p:spPr>
          <a:xfrm>
            <a:off x="1828800" y="457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5" name=""/>
          <p:cNvSpPr/>
          <p:nvPr/>
        </p:nvSpPr>
        <p:spPr>
          <a:xfrm>
            <a:off x="3733920" y="5335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Valley of Mizpah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572000" y="22824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7" name=""/>
          <p:cNvSpPr/>
          <p:nvPr/>
        </p:nvSpPr>
        <p:spPr>
          <a:xfrm>
            <a:off x="5486400" y="2590920"/>
            <a:ext cx="3505320" cy="1373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orthern Campaign is completed!</a:t>
            </a:r>
            <a:endParaRPr b="0" lang="en-US" sz="28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339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43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44" name=""/>
          <p:cNvSpPr/>
          <p:nvPr/>
        </p:nvSpPr>
        <p:spPr>
          <a:xfrm>
            <a:off x="29718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45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47" name=""/>
          <p:cNvSpPr/>
          <p:nvPr/>
        </p:nvSpPr>
        <p:spPr>
          <a:xfrm>
            <a:off x="2819520" y="4648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49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0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1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3" name=""/>
          <p:cNvSpPr/>
          <p:nvPr/>
        </p:nvSpPr>
        <p:spPr>
          <a:xfrm>
            <a:off x="3581280" y="42670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4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5" name=""/>
          <p:cNvSpPr/>
          <p:nvPr/>
        </p:nvSpPr>
        <p:spPr>
          <a:xfrm>
            <a:off x="2209680" y="38862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6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7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8" name=""/>
          <p:cNvSpPr/>
          <p:nvPr/>
        </p:nvSpPr>
        <p:spPr>
          <a:xfrm>
            <a:off x="1828800" y="41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ibe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4191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0" name=""/>
          <p:cNvSpPr/>
          <p:nvPr/>
        </p:nvSpPr>
        <p:spPr>
          <a:xfrm>
            <a:off x="274320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1" name=""/>
          <p:cNvSpPr/>
          <p:nvPr/>
        </p:nvSpPr>
        <p:spPr>
          <a:xfrm>
            <a:off x="2895480" y="5105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eb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3" name=""/>
          <p:cNvSpPr/>
          <p:nvPr/>
        </p:nvSpPr>
        <p:spPr>
          <a:xfrm>
            <a:off x="1219320" y="5257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gl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4" name=""/>
          <p:cNvSpPr/>
          <p:nvPr/>
        </p:nvSpPr>
        <p:spPr>
          <a:xfrm>
            <a:off x="2438280" y="4495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876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6" name=""/>
          <p:cNvSpPr/>
          <p:nvPr/>
        </p:nvSpPr>
        <p:spPr>
          <a:xfrm>
            <a:off x="121932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chis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7" name=""/>
          <p:cNvSpPr/>
          <p:nvPr/>
        </p:nvSpPr>
        <p:spPr>
          <a:xfrm>
            <a:off x="1371600" y="45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armut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8" name=""/>
          <p:cNvSpPr/>
          <p:nvPr/>
        </p:nvSpPr>
        <p:spPr>
          <a:xfrm>
            <a:off x="243828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9" name=""/>
          <p:cNvSpPr/>
          <p:nvPr/>
        </p:nvSpPr>
        <p:spPr>
          <a:xfrm>
            <a:off x="1219320" y="4343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kkeda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0" name=""/>
          <p:cNvSpPr/>
          <p:nvPr/>
        </p:nvSpPr>
        <p:spPr>
          <a:xfrm>
            <a:off x="297180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35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ilgal (camp)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2" name=""/>
          <p:cNvSpPr/>
          <p:nvPr/>
        </p:nvSpPr>
        <p:spPr>
          <a:xfrm>
            <a:off x="1676520" y="6491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3" name=""/>
          <p:cNvSpPr/>
          <p:nvPr/>
        </p:nvSpPr>
        <p:spPr>
          <a:xfrm>
            <a:off x="2362320" y="5638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bi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4" name=""/>
          <p:cNvSpPr/>
          <p:nvPr/>
        </p:nvSpPr>
        <p:spPr>
          <a:xfrm>
            <a:off x="99072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5562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za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6" name=""/>
          <p:cNvSpPr/>
          <p:nvPr/>
        </p:nvSpPr>
        <p:spPr>
          <a:xfrm>
            <a:off x="236232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7" name=""/>
          <p:cNvSpPr/>
          <p:nvPr/>
        </p:nvSpPr>
        <p:spPr>
          <a:xfrm>
            <a:off x="1905120" y="6216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adesh Barnea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8" name=""/>
          <p:cNvSpPr/>
          <p:nvPr/>
        </p:nvSpPr>
        <p:spPr>
          <a:xfrm>
            <a:off x="11430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9" name=""/>
          <p:cNvSpPr/>
          <p:nvPr/>
        </p:nvSpPr>
        <p:spPr>
          <a:xfrm>
            <a:off x="838080" y="1676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Carme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295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chshap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762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ishrepoth-mai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304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i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143000" y="151920"/>
            <a:ext cx="457200" cy="3812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4" name=""/>
          <p:cNvSpPr/>
          <p:nvPr/>
        </p:nvSpPr>
        <p:spPr>
          <a:xfrm>
            <a:off x="3429000" y="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Hermon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5335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Valley of Mizpah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6" name=""/>
          <p:cNvSpPr/>
          <p:nvPr/>
        </p:nvSpPr>
        <p:spPr>
          <a:xfrm>
            <a:off x="3505320" y="9144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Sea of Galilee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7" name=""/>
          <p:cNvSpPr/>
          <p:nvPr/>
        </p:nvSpPr>
        <p:spPr>
          <a:xfrm rot="16200000">
            <a:off x="2860200" y="2168640"/>
            <a:ext cx="14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ordan Valley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8" name=""/>
          <p:cNvSpPr/>
          <p:nvPr/>
        </p:nvSpPr>
        <p:spPr>
          <a:xfrm>
            <a:off x="24382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him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0" name=""/>
          <p:cNvSpPr/>
          <p:nvPr/>
        </p:nvSpPr>
        <p:spPr>
          <a:xfrm>
            <a:off x="2133720" y="685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ero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1" name=""/>
          <p:cNvSpPr/>
          <p:nvPr/>
        </p:nvSpPr>
        <p:spPr>
          <a:xfrm>
            <a:off x="2438280" y="304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az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1295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2286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4" name=""/>
          <p:cNvSpPr/>
          <p:nvPr/>
        </p:nvSpPr>
        <p:spPr>
          <a:xfrm>
            <a:off x="3048120" y="10666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0" y="1447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572000" y="22824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7" name=""/>
          <p:cNvSpPr/>
          <p:nvPr/>
        </p:nvSpPr>
        <p:spPr>
          <a:xfrm>
            <a:off x="1600200" y="1828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8" name=""/>
          <p:cNvSpPr/>
          <p:nvPr/>
        </p:nvSpPr>
        <p:spPr>
          <a:xfrm>
            <a:off x="1828800" y="457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533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410080" y="228600"/>
            <a:ext cx="3733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So Joshua took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whole land...."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1" name=""/>
          <p:cNvSpPr/>
          <p:nvPr/>
        </p:nvSpPr>
        <p:spPr>
          <a:xfrm>
            <a:off x="6095880" y="1295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Joshua 11:16, 23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402" name=""/>
          <p:cNvSpPr/>
          <p:nvPr/>
        </p:nvSpPr>
        <p:spPr>
          <a:xfrm>
            <a:off x="5486400" y="1676520"/>
            <a:ext cx="3657600" cy="47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mmary: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Joshua made war a long time…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1:16-18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de no peace with any city except Gibeon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1:19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od caused the Canaanites to come to Israel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1:20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 Joshua took the whole land”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1:21-23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List of Conquered King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ses defeated the kings on the east side of Jordan (12:1-6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shua defeated the kings on the west side of Jordan (12:7-24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rael smote 31 king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t all Canaanites driven out/killed 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t all of the work do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fter dividing the land, it will be “little by little”(Deut. 7:22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7:00:00Z</dcterms:created>
  <dc:creator>Don Vines</dc:creator>
  <dc:description/>
  <dc:language>en-US</dc:language>
  <cp:lastModifiedBy>Frank D Vines</cp:lastModifiedBy>
  <dcterms:modified xsi:type="dcterms:W3CDTF">2008-10-04T22:31:42Z</dcterms:modified>
  <cp:revision>46</cp:revision>
  <dc:subject/>
  <dc:title>Joshua: The New Leader</dc:title>
</cp:coreProperties>
</file>